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8FB-CBC4-466B-911C-1C37782E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944-1A90-43C5-9D32-24711F7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0FC-4E1A-4CAD-A231-93CC21DB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DA3-6E17-4043-BA33-F4B1BBFA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FBBF-E8DE-40FD-81CC-ECBABE3E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7484-C86C-4352-B120-6DED03BC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514E-FE08-44EE-AC9B-DC10DA79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E087-0CF3-4979-8218-3E47F0B8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97CA-E53B-489E-8489-CD53C408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F068-7B76-4A52-B6EC-C2461828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0B84-5E14-4A5E-A05A-2773CD14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510-4078-4EE0-BFA9-4AACFBC0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D2B0-560B-42D8-9A30-B8ED562F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1CFA-79E3-459D-9A34-A18AE1BA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B607-B98D-43D5-B7BD-A866B5AF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973D-7D3D-463B-9C96-206C1A05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3D96-28FE-4D31-AAB0-BE39F060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2783B-C697-40C2-9606-99BA0818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39ABD-3EC7-4B13-A395-573C3E40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A8666-E780-4657-90F5-C7EF9E92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03633-B03D-4C90-AD0A-1BC22672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DB25C-AE8E-439D-9026-20931775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BF1-883E-4F15-8E08-9F32E65E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53E0E-07A3-4F05-B8D0-E449C9E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7C564-F800-4BD0-BCA7-0D6277D6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A4EFD-6CC0-4EB4-AA57-D4557EA2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CB8F0-B62D-4157-BA31-C676774A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046A1-A1BE-41C1-8EB8-E486C1E5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58E58-B8E1-486F-B595-581F5A5A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96679-1AAE-44E6-95E2-31DF8EBB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1B229-06CE-460A-8718-879ABDC1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87AC4-8F56-4ED9-937B-08917B1C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625ED6-53CD-4D70-8F3C-0EC43784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5B3-D82A-4B42-A0B2-DC63659D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85AED-A187-4176-819E-B69D2FED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B2651-0A2D-4EF1-9BA4-F284B1BE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F61A5-7D6E-425A-B25B-480ABD6F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42004-BB4A-4759-97C3-60FC074A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15694-D874-4F90-A1AE-1ED3515E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B1488-898E-4DF9-849F-A9A89723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BDCE1-0240-44E3-9085-1DE084FA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B8E71-1064-4FB7-B7EE-9083982F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D446A-E08D-4381-99C6-63CA9C61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883C-3E8C-4530-82EC-8B6BCA81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F6F-0212-44A9-8E82-4223AEEB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73BED-4BC5-48E2-A65B-1526468A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7C85A-0CAE-46BB-9457-B6CE50FE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11EC5-2C34-42C2-844D-9A6E4503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E4DCE-B17C-4F41-A6E0-1E6D1A78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280AC-8EE8-4488-84FF-21DFDA01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E3245-723F-48D0-B337-F2B30B0E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7451B-259F-4706-851A-986834E2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5AF4A-14ED-4DA5-9A65-A19E56B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F3807-4628-460D-8BE0-8CA577E6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283B8-29AD-43D6-A68D-63966CFC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A9B-D4FB-476E-A961-F7F29C3E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FA266-EB4D-4575-8A5F-4ACEBA80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6C1D28-00B6-4D0F-9A0A-054F8CC1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E140F-D073-4445-AB14-7BC4F3EF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EF4BA-6205-4BC1-8A20-98D24161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31C69-2A3F-4C0C-A52D-4561D201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46950-A086-4B44-97A3-C64E7D75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7425F-0D77-4D3C-A578-5A03A17F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9AB18-2DE0-4EAD-8017-24ACB378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B0E45-9750-4A27-9400-17413EB6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98597-A40A-4533-BCCB-ABDBD52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938-AE78-49DB-922F-92F2B8A6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FDEC4-66E1-42E5-9012-D881D72B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AB071-5751-450B-A5D2-FD24511D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5F471-1E20-486C-A0CE-43970849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062BE-C4A4-41B1-BBBD-E9B3CF81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126B3-20C9-4EBA-9BD1-B73D1170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CA8C5-17C8-42DD-B794-99C80621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0DFDD-96C8-43F6-9BAE-3EFFE9BD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DB281-6E4C-4C60-A0DB-8070E85A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79B6B-4BE2-49C7-B097-EBC59C56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39D49-CE00-46D2-9D1A-E176FE3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FF4-EB29-436C-986A-710A5E63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321FD-72D8-408D-9ECC-E7F741CE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02A22-AB53-490F-AE60-1978F79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860BE-C1A2-4590-8073-34C3A68B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331CB-D161-45E8-80C0-E0BB2531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3D386-EE86-45CF-A68A-0052AE1D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F88-83D3-41E8-991A-3A02476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0FF3-28BA-4AAB-AFDF-8990604A15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48D2-4079-44FF-A743-D3600AB6701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48B5-475B-4A67-A91A-E0BD12A050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6B1A-F086-4F2B-AE66-19746F2BDA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2D96-ED20-4448-B841-6EA3168F0E1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FF05-1479-4DC5-B1B8-E7DC510A1F7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C4E7-B71F-4F0A-95D1-9CF8604452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04760" y="761760"/>
            <a:ext cx="6476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HYBRID TEACHING AND LEARNING IN CONTEMPORARY ENGLISH TEACHER EDUCA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2285640" y="61718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r. Marshall A. Georg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rdham University, New York Cit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le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we have learn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re we are head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“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hift Happens…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in teacher education”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merican Association of Colleges of Teacher Education and The Partnership for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Century Skill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ational Council of Teachers of Englis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CK-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PCK (Shulman 1986; Mishra &amp; Koelher 2004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the shif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1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8358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y the shif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glish Teacher Education Programs (7-12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dham University Graduate School of Edu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w York C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ternative Route Certification Students who are full time teach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d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5" name="Content Placeholder 2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3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hat does the shift look like in our program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olescent Literature (big pictur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ndations of Adolescent Language and Literacy (specific chang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Adolescent Literature in a Multicultural Society: A Hybrid Adventur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ent Knowled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terature for Adolesc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dagogical Content Knowled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aching Literature to Adolesc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chnological Content Pedagogical Knowled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tilizing digital literacies to teach adolescent literature to adolescents and to assess their knowledge and skil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 Class Learning Commun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structor Present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ole Class Discus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uest Spea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ok Shares (digital and traditiona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ok Clubs/Literature Circ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rtner and Small Group Activit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udent Present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ynchronous Learning Commun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 Qu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net Research and Rea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cussion Bo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ss Blo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dca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nfi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irtual Book Club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ss Portfolio Libra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21:46:55Z</dcterms:created>
  <dc:creator> </dc:creator>
  <dc:description/>
  <dc:language>en-US</dc:language>
  <cp:lastModifiedBy> </cp:lastModifiedBy>
  <dcterms:modified xsi:type="dcterms:W3CDTF">2011-04-16T21:51:38Z</dcterms:modified>
  <cp:revision>1</cp:revision>
  <dc:subject/>
  <dc:title>HYBRID TEACHING AND LEARNING IN CONTEMPORARY ENGLISH TEACHER EDUCATION</dc:title>
</cp:coreProperties>
</file>